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1A5E5B95-7A1F-4DE9-85A4-DB8146D2BE10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F76CF1A1-74B3-4D48-914A-4B55A54B7F40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25640" y="1752480"/>
            <a:ext cx="655308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Course Conclus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ourse will help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plan for teaching the PSP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common problems and pitfalls that your students may encounter, and know how to help them overcome these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how to grade and analyze student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your role as a change agent in introducing the PSP to your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6600" spc="-1" strike="noStrike">
                <a:solidFill>
                  <a:srgbClr val="39536b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7Z</dcterms:modified>
  <cp:revision>166</cp:revision>
  <dc:subject/>
  <dc:title>No Slide Title</dc:title>
</cp:coreProperties>
</file>